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08A-A980-4B0D-B1C4-B71AEC78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A4A-BAC8-4854-82A3-63BFBF76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F70-9CFB-4723-AED4-09500C15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174-11FC-4E03-933B-67F11E21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1AB-7570-4DFA-9954-E1264B2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6F7-FB86-4EBE-99CA-D85162DF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A37-2DBB-4FAF-9CCB-44C0ED9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5CE-3D18-4189-B9BA-759D41D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037-6825-4C3D-BC72-371F857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829-3846-4D2D-8866-B4DCF28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667-BC54-46E6-9810-47C42C3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43E-EAFB-4614-9408-DF0BAE3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FCF-FC6F-444E-A9D5-F36C50C4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epidermis covers most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s the stratum luc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only four specific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following accessories: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icles, sebaceous glands, and 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 is a pigment produced and sto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lled melanoc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types of melanin occur in various yell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sh, tan, brown, and black sh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tene comes primarily from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kin produces/ synthesizes vitami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like modifications of the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form on the dorsal surfaces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 of the fingers and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exposed distal tip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damage or distortion 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ing, kicking, catching, or gras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erivatives formed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um corneum layer of the epi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almost everywhere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the palms of the hands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s and soles of the feet, the lips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s of the fingers and toe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ons of the external genit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hairs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n the general body surface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638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the loss of conducted heat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p to the surrounding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signal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the synthesis of melani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adjacent to the papill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hair color reflect gene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differences in the structur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and hormo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rine Gland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 (sudoriferous) glands produc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y solution that performs sev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ocrine (eccrine) sweat glands- most numerous. Palms and soles have the highest number (99%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crine sweat glands- most active during pub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ceous glands produce an oily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oats hair shafts and the epid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ause of accidental death, primarily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ult of their effects on the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caused by heat, radiation, harm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, sunlight, or electrical sh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mediate threat to life results prim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luid loss, infection, and the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ed, dead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s are classified according to the dept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S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water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 and second-degree bur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partial-thickness 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degree burns are called full-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degree burns involve onl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rmis and are characteriz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ness, pain, and slight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is sun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degree burns invol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rmis and part of the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in appears red, tan, or whit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listered and pain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is a sca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burn2.jpg 2nd Degree Burns image by mschlags"/>
          <p:cNvPicPr/>
          <p:nvPr/>
        </p:nvPicPr>
        <p:blipFill>
          <a:blip r:embed="rId2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degree burns involve the epidermis, der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cutaneous layer, which are often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on may occur from the edge only,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sence of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grafting is required to prevent ab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e tissue fibrosis and disfig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hydration is a major concern because the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on of skin has been lost, and water canno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ggressively treated for dehyd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7360"/>
            <a:ext cx="91440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of 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repair processes take longer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umber and activity of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forms wrinkles and becomes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’s immune responsiveness is dim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becomes drier due to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ceous gland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skin and hair pi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of 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 production dimin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supply to the dermis is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to impaired thermo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inning and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 production of vitamin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in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skin canc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84582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kin that covers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is also known as the cu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umentary system consist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and its derivatives—nails, h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at glands, and sebaceous g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body’s largest or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surface is covered by an epithelium that prot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ying body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ve tissues contain blood vessel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nutrients and provide strength and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muscle controls both blood vesse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air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issue supports and monitors 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 in the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istinct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yer of stratified 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helium called the epi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eper layer of dense ir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e tissue called the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o the dermis is a layer of areola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pose connective tissue calle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layer, or hypo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4674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90676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ck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epidermis is found on the pa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hands, the soles of the fee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surfaces of the fi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ve epidermal strata occur in 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7:35Z</dcterms:created>
  <dc:creator>jeff bonomo</dc:creator>
  <dc:description/>
  <dc:language>en-US</dc:language>
  <cp:lastModifiedBy>jeff bonomo</cp:lastModifiedBy>
  <dcterms:modified xsi:type="dcterms:W3CDTF">2010-10-06T12:53:39Z</dcterms:modified>
  <cp:revision>12</cp:revision>
  <dc:subject/>
  <dc:title>Chapter 5  </dc:title>
</cp:coreProperties>
</file>